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36FB8-B306-4E24-A47B-7C414FAAC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B04D-2E92-41C4-B12A-057ACBC5F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FBE62-CB42-4E16-AD89-D4C228414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C2C90-6A3D-404C-876A-B3F00E8DD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8814F-5D6A-4F8E-AA13-7B0161C51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C4129-C351-40EE-BA61-3479EB95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0904-5AC7-493C-B3C9-44B4D1DE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936B-C752-462B-9D7E-4B0E100E1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2A81-B745-4A1A-8D72-AD55CF5B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2B024-9F96-4942-86D3-969AE417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231F-0256-48AC-AC46-EC40CD71C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FF8C5-F367-406E-A5A4-A554625EB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CE2CC-9957-4FE8-9988-744A9D5A3E5C}"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D4B55-A985-4114-A039-80D6344250B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rnitin.com/" TargetMode="External"/><Relationship Id="rId3" Type="http://schemas.openxmlformats.org/officeDocument/2006/relationships/hyperlink" Target="http://www.turnitin.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pyright &amp; Plagiarism Problem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annon Anderson</a:t>
            </a: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erging Technolog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orks Cited</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2"/>
              </a:rPr>
              <a:t>http://www.plaigraism.or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3"/>
              </a:rPr>
              <a:t>http://www.turnitin.com</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plagiarism?</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y people think plagiarism is simply borrowing or copying someone else’s ideas.  However, it is much more serious than th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cording to the Merriam-Webster Online Dictionary, to "plagiarize" means</a:t>
            </a:r>
            <a:endParaRPr b="0" lang="en-US" sz="32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steal and pass off (the ideas or words of another) as one's ow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use (another's production) without crediting the sourc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commit literary thef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present a new and original idea or product derived from an existing source.</a:t>
            </a: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 other words, plagiarism is an act of fraud. It involves both stealing someone else's work and lying about it afterward.</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an words and ideas really be stolen? </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cording to U.S. law, the answer is yes. The expression of original ideas is considered intellectual property, and is protected by copyright laws, just like original inventions. Almost all forms of expression fall under copyright protection as long as they are recorded in some way (such as a book or a computer fil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ll of the following are considered plagiarism:</a:t>
            </a:r>
            <a:br>
              <a:rPr sz="3600"/>
            </a:br>
            <a:endParaRPr b="0" lang="en-US" sz="25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urning in someone else's work as your own</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opying words or ideas from someone else without giving credit</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failing to put a quotation in quotation mark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ing incorrect information about the source of a quotation</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hanging words but copying the sentence structure of a source without giving credit</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opying so many words or ideas from a source that it makes up the majority of your work, whether you give credit or no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Turnitin</a:t>
            </a:r>
            <a:br>
              <a:rPr sz="3600"/>
            </a:br>
            <a:endParaRPr b="0" lang="en-US" sz="36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riginality Checking allows educators to check students' work for improper citation or potential plagiarism by comparing it against continuously updated databases. Every Originality Report provides instructors with the opportunity to teach their students proper citation methods as well as to safeguard their students' academic integr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Features &amp; Benefits</a:t>
            </a:r>
            <a:br>
              <a:rPr sz="3600"/>
            </a:br>
            <a:endParaRPr b="0" lang="en-US" sz="36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ncourages Proper Citat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12 Billion Web Pages Crawled &amp; </a:t>
            </a:r>
            <a:r>
              <a:rPr b="0" lang="en-US" sz="2400" spc="-1" strike="noStrike">
                <a:solidFill>
                  <a:srgbClr val="ffffff"/>
                </a:solidFill>
                <a:latin typeface="Calibri"/>
              </a:rPr>
              <a:t>	</a:t>
            </a:r>
            <a:r>
              <a:rPr b="0" lang="en-US" sz="2400" spc="-1" strike="noStrike">
                <a:solidFill>
                  <a:srgbClr val="ffffff"/>
                </a:solidFill>
                <a:latin typeface="Calibri"/>
              </a:rPr>
              <a:t>Archiv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90 Million Student Paper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12,000 Major Newspapers, Magazines &amp; Scholarly Journal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Thousands Of Books Including Literary Classic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Printable Report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Side-By-Side Comparis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7 Things Educators Should Know About Turnitin </a:t>
            </a:r>
            <a:endParaRPr b="0" lang="en-US" sz="36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s the world’s most popular, most effective and most trusted solution for originality checking.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s not just about checking originality.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  </a:t>
            </a:r>
            <a:r>
              <a:rPr b="1" lang="en-US" sz="3600" spc="-1" strike="noStrike">
                <a:solidFill>
                  <a:srgbClr val="ffffff"/>
                </a:solidFill>
                <a:latin typeface="Calibri"/>
              </a:rPr>
              <a:t>Turnitin can be used as a </a:t>
            </a:r>
            <a:r>
              <a:rPr b="1" lang="en-US" sz="3600" spc="-1" strike="noStrike">
                <a:solidFill>
                  <a:srgbClr val="ffffff"/>
                </a:solidFill>
                <a:latin typeface="Calibri"/>
              </a:rPr>
              <a:t>	</a:t>
            </a:r>
            <a:r>
              <a:rPr b="1" lang="en-US" sz="3600" spc="-1" strike="noStrike">
                <a:solidFill>
                  <a:srgbClr val="ffffff"/>
                </a:solidFill>
                <a:latin typeface="Calibri"/>
              </a:rPr>
              <a:t>learning tool. </a:t>
            </a:r>
            <a:endParaRPr b="0" lang="en-US" sz="36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urnitin performs ongoing development &amp; innovation in technology &amp; interfac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ntegrates with major Course Management Systems (CMS/LM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comes with FREE online training &amp; live phone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has global reach.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9:02:00Z</dcterms:created>
  <dc:creator>Anderson, Shannon</dc:creator>
  <dc:description/>
  <dc:language>en-US</dc:language>
  <cp:lastModifiedBy>I mac</cp:lastModifiedBy>
  <dcterms:modified xsi:type="dcterms:W3CDTF">2009-10-26T22:48:57Z</dcterms:modified>
  <cp:revision>7</cp:revision>
  <dc:subject/>
  <dc:title>Copyright &amp; Plagairsm Problems </dc:title>
</cp:coreProperties>
</file>